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3DF0-D41F-4F8E-91BE-147B76074C8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AUC consists of a voice coder-decoder (codec) dedicated to GSM applications and an audio stereo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 the uplink pa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codec processes analog audio components and transmits this signal to the DSP speech coder through the voice serial port (VSP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 the downlink path the codec converts the digital samples of speech data received from the DSP via the VSP port into analog audio sig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codec supports an 8-kHz (default) or a 16-kHz sampling frequ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stereo audio path converts audio component data received from the I2S serial interface (AUSP) into analog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ESRES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IOTA active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RPWON: IOTA only edge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terrupt INT2 is generated either for the following events: PWON, RPWRON, RPWON2, a charger plug/unplug is detected, or an USB plug/unplug is detected while the device is in power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terrupt INT1 is generated when abnormal low battery voltage condition is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Power-On Reset (POR)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Provides a reset signal for the VRPC state machine, RTC clock and DBB split power logic.  This reset signal (nRESPWONZ) becomes high when UPR&gt;2.6V on the rising edge, and low when UPR&lt;2.1V in the falling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SWON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This is a comparison block for the battery voltage and reference (3.2V).  The result of this comparison determines whether the switch-on process can be achie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BBS (BB Switch), UVLO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This is also a battery voltage comparison block with a reference (2.8V).  It determines whether a emergency switch-off event needs to occur.  When the voltage drops below 2.8V, an emergency interrupt is generated (INT1) and VRPC automatically executes a switch-off sequence to the BACKUP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VRPCD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A digital block that contains the state machine and timers to control the switch-on, switch-off sequenc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C663-139C-4A26-8576-BC0FE59C56E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4165-8558-425F-82A6-DAA472CA2FA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uring the Watchdog interval, the SW has 150us corresponding to 1950 X 13MHz clock cycles to treat the INT interrupt and execute possible configuration access to enter BACKUP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2624-7FA4-40CF-AA72-C7E69730B1B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-bounce period of 1034 *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2K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= 32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DB4B-9765-4C7D-A668-73027F1EFFC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S = [8~48kH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L lock time = 10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UL path performs modulation of burst data sent from the DSP radio interface (RIF) to the baseband serial port (BSP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modulator circuit in the BUL path performs the Gaussian minimum shift keying (GMSK) in accordance with the 3GPP specification TS 05.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GMSK modulator generates the in-phase (I) and quadrature (Q) compon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se digital I and Q words are converted into analog baseband by two 10-bit DACs and filtered by third-order low-pass fil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UL path includes secondary functions such as dc offset calibration and I/Q gain un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DL path converts the baseband analog I and Q components from the RF receiver into digital samples. The resulting signals are filtered through a digital FIR to isolate the desired data from the adjacent channels. During reception of the burst I and Q components, the digital data are sent to the DSP via the BSP at a rate of 270.833 k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DL path includes a dc offset calib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93B-2964-4C2E-B4C5-D28B0E2B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8880" y="35712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1FA0-923D-4573-8ED8-7ADDE9BF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288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30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739-0CC5-40DD-9EBF-305ACDB5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5400" y="11430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1920" y="11430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28880" y="35712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5400" y="35712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1920" y="35712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57C-ACB6-4128-AC76-9FE85199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28880" y="11430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EBE-C5A3-4E2E-881C-7BBCA431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4D9-D506-48FE-9157-84946107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05E-42AD-4AAB-8B27-ACFCB8F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516-7A67-40A5-BDDE-5389AAE2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240" y="-7668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9B2-FB7D-4A13-8069-4E2A9ADD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288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BCC-3C1C-4081-8C7D-815E43B7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30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F67-91BB-4DAC-9173-034A2A13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28880" y="35712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7DB-B206-4D08-994C-42ABBBA7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11430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6253-69C5-4C74-B704-A2F82ADD83F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09520" y="838080"/>
            <a:ext cx="840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312840"/>
            <a:ext cx="950760" cy="35388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309400" y="4572000"/>
            <a:ext cx="497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exas Instruments 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ireless Customer Integration &amp; Desig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70000" y="547740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8560" y="583776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TI proprietary Information, under Non-Disclosure Agre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38240" y="1676520"/>
            <a:ext cx="498024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Verdana"/>
                <a:ea typeface="新細明體"/>
              </a:rPr>
              <a:t>Triton-Lite TWL30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Control por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936720"/>
            <a:ext cx="840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e unmarked serial interface provides the mean of communication between TWL3031 and two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ors (modem and application process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fter the reset signal, the serial interface has read/write access to all internal registers of TWL3031 dev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A1 I2C  Bi-directional data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L1 I2C   Bi-directional clock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Interrupt handl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4160" y="1030320"/>
            <a:ext cx="87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_INT2 interrupt signal can be asserted by any TWL3031 resource and sent to the suitable host proc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01680" y="2052720"/>
            <a:ext cx="8439120" cy="21938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45960" y="4206960"/>
            <a:ext cx="840132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 management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4160" y="1192320"/>
            <a:ext cx="864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management resourc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Power-On Re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in order to generate a system reset at battery plug-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Power Control State Mac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which controls the power on sequence of the system initiated by external events (Button, Accessory plug / un-plug, …) or internal event (Interrupt, Wake-up ev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Power-On Rese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6440" y="925560"/>
            <a:ext cx="836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ower Control State Machine controls the transition sequences among the different operating states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 function of the Power Control State Machine is to monitor power supply elements and detect power failures or over-temperature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85640" y="3578400"/>
            <a:ext cx="8172720" cy="9968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85640" y="4551480"/>
            <a:ext cx="817272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1200" y="1042920"/>
            <a:ext cx="8902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ive system operating states ar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NO SUPP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 battery i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BACKU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backup battery i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OF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is present, backup battery present or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 configuration is all power supplies are in off-state except VR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is present, backup battery present or not. Power supplies are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SL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is present, backup battery present or not. Power supplies are in low-power m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19240" y="885960"/>
            <a:ext cx="8019720" cy="3105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19240" y="3978360"/>
            <a:ext cx="80197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681200" y="482760"/>
          <a:ext cx="56782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482760"/>
                    <a:ext cx="5678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7040" y="2125800"/>
            <a:ext cx="8172720" cy="1311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47400" y="1028880"/>
            <a:ext cx="63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ference voltage and reference cur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60320" y="597420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0120" y="1266840"/>
            <a:ext cx="82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ree modes are defined for the power supply mod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O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 voltage, no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minal voltage, nominal output rat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LOW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minal voltage, low output rat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93204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em DB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49120" y="1424160"/>
            <a:ext cx="8174160" cy="1303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99880" y="3940200"/>
            <a:ext cx="8034480" cy="1436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97360" y="33274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eripher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5256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5440" y="99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07880" y="1708200"/>
            <a:ext cx="82504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465280" y="822240"/>
            <a:ext cx="5403960" cy="60357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22120" y="2882880"/>
            <a:ext cx="15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supplies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760" y="1003320"/>
            <a:ext cx="81788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provides voice and audio re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hone voice cod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stereo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ock frequency: same as master clock frequ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e SPI (VSP) interface for voice and one I2S serial interface (master) for a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1960" y="968400"/>
            <a:ext cx="88520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ice Codec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-kHz &amp; 16-kHz sample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3-bit ADC / 15-bit DAC and digital fil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plink &amp; Downlink PGA, Side tone and volume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phone and headset microphone bias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nd / End detection (Hook detect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ice memo function through transmission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0" y="1623960"/>
          <a:ext cx="914400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3960"/>
                    <a:ext cx="91440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279000" y="10540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ce 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0" y="1362240"/>
          <a:ext cx="914400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62240"/>
                    <a:ext cx="914400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244800" y="87624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ce Down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1960" y="1020600"/>
            <a:ext cx="76708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Stereo path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gital interface Sampl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-kHz, 11.025-kHz, 12-kHz, 16-kHz, 22.05-kHz, 24-kHz, 32-kHz, 44.1-kHz, 48-k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-bits linear stereo DAC, digital fil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dependent right and left volume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0" y="1500120"/>
          <a:ext cx="914400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0120"/>
                    <a:ext cx="914400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39400" y="9144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Ste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0440" y="930240"/>
            <a:ext cx="81154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analog inpu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ial microphone input (20-Hz to 8-kHz bandwid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 ended headset microphone input (20-Hz to 8-kHz bandwid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&amp; Right analog inputs with volume control for FM radio (20-Hz to 8-kHz bandwidth): FM ste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through FML and AUXI_FMR pins) and FM mono (through AUXI_FMR pi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3040" y="930240"/>
            <a:ext cx="77472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analog outpu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phone and headset microphone bias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ial Earphon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 ended headset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-Ohm Hands Fre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&amp; Right Auxiliary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&amp; Right single ended headset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seudo-ground output to avoid AC coup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Battery charger &amp;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9360" y="1074600"/>
            <a:ext cx="859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voltage (20V) Main battery charger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use of low cost 20V unregulated ch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pability of charging from USB (Li-Ion, Li-poly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-Ion, Li-polymer and Ni-Mh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near charge through constant current / constant voltag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lsed charge through PWM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 and car-kit pre-charge. Automatic starts and stop depending on main batte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ttery monitoring (Voltage, Temperature, Type, Charge current) done via the general purpose 10bit 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Battery charger &amp;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874880" y="831960"/>
            <a:ext cx="546408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7040" y="1208160"/>
            <a:ext cx="789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provides the following transceivers and dri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-card interface (insertion / extraction detection func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2.0 FS transceiver (slave onl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brator driv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-LED’s dr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3080" y="984240"/>
            <a:ext cx="829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-Card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rpose of the SIM-card interface is to allow use of 1.8V/2.85V SIM-card typ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provides only the insertion / extraction detection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l the other signals from / to the SIM-card module (SIO, SCK, SRST) are managed directly by the digital IC compa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1400" y="86688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Transce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5840" y="134928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TG transceiver specification (compliancy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includes a single USB 2.0 Full-Speed (FS) transceiver compatible with the “Universal Serial Bus Specification Revision 2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ni-USB Analog Car Ki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 compliance with CEA-936-A standard, TWL3031 USB interface supports the following functional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B digital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 Wire Analog Car-k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ART (RS232) digital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rge ph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90720"/>
            <a:ext cx="8761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device provides the following resourc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Management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supply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ice &amp; Audio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ttery charger &amp; contro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 Time clock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alog transceivers / drivers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646280" y="1501920"/>
            <a:ext cx="5775120" cy="4120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80520" y="8668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transceiv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922320"/>
            <a:ext cx="490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brator dr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includes a vibrator driver. The main features of the vibrator driver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able output voltage (a) linear or (b) pulse density modulation (from 1.2V up to 2.7V, 75mA maximum output current) with soft turn-on/turn-off 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low frequency (4-Hz) and variable duty cycle (25 / 50 / 75 / 10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195880" y="1195560"/>
            <a:ext cx="3948120" cy="3798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655240" y="505944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ibrator driver block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2920" y="915840"/>
            <a:ext cx="86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-LED’s dri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includes three white-LED’s driver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ain scre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keypa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uxiliary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43080" y="3349800"/>
            <a:ext cx="8210520" cy="10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577960" y="933480"/>
            <a:ext cx="5575320" cy="5014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55600" y="895320"/>
            <a:ext cx="347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-LED’s driver block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  <a:ea typeface="宋体"/>
              </a:rPr>
              <a:t>R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7960" y="10098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TC block is an embedded Real Time Clock (RTC) module, directly accessible from the control port interface, which consists of (1) a 32-kHz oscillator (two-pins architecture) and (2) a RTC mo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incipal features/characteristics of the RTC block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lenda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Hot-Die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960" y="923760"/>
            <a:ext cx="786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contains a programmable temperature monitoring system (Hot-Die function), which is capable to generate an interrupt when a critical junction temperature is reached within the device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nterrupt (#14) is a request to the software to close non-critical applications to reduce the amount of power drawn from TWL3031, thus reducing the internal diss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emperature monitoring system is also capable to generate a thermal shutdown signal whenever the temperature further increases. This signal generates an immediate, unconditional reset to the TWL3031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Housekeep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7960" y="900000"/>
            <a:ext cx="8363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general purpose 10-bit ADC provides the means to monitor internal or external parameters. It includes a 11 channel multiplexed inputs arrang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Internal monitoring (6 channels)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charging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ckup batte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arger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VBUS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al IC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xternal monitoring (3 channel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e simple input (ADCIN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o inputs with current sources (ADCIN4 and ADCIN5) for battery type and battery temperature resp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81952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WL3031 Functional Block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51000" y="538200"/>
            <a:ext cx="535932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763640" y="1844640"/>
            <a:ext cx="5112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"/>
          <p:cNvSpPr/>
          <p:nvPr/>
        </p:nvSpPr>
        <p:spPr>
          <a:xfrm>
            <a:off x="3615840" y="603612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04840" y="633240"/>
            <a:ext cx="6075360" cy="591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5240" y="280656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terminal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3004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8200" y="2313000"/>
            <a:ext cx="4118040" cy="2136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46480" y="3168720"/>
            <a:ext cx="762120" cy="290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D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8880" y="2762280"/>
            <a:ext cx="723960" cy="600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DSP subch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27200" y="2049480"/>
            <a:ext cx="1312920" cy="307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01720" y="2603520"/>
            <a:ext cx="711360" cy="546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Pow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27280" y="3625920"/>
            <a:ext cx="51444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27280" y="3232080"/>
            <a:ext cx="51444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Aud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3400" y="4006800"/>
            <a:ext cx="50832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USB-OT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rebuchet MS"/>
                <a:ea typeface="新細明體"/>
              </a:rPr>
              <a:t>transceiv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36680" y="3333600"/>
            <a:ext cx="1386000" cy="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1640" y="3297240"/>
            <a:ext cx="33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I2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46400" y="3723840"/>
            <a:ext cx="1371600" cy="468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3800" y="4648320"/>
            <a:ext cx="34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158720" y="4243320"/>
            <a:ext cx="447840" cy="764640"/>
            <a:chOff x="4158720" y="4243320"/>
            <a:chExt cx="447840" cy="764640"/>
          </a:xfrm>
        </p:grpSpPr>
        <p:sp>
          <p:nvSpPr>
            <p:cNvPr id="87" name=""/>
            <p:cNvSpPr/>
            <p:nvPr/>
          </p:nvSpPr>
          <p:spPr>
            <a:xfrm flipV="1">
              <a:off x="4159080" y="4625640"/>
              <a:ext cx="0" cy="382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158720" y="4625640"/>
              <a:ext cx="44748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606560" y="4243320"/>
              <a:ext cx="0" cy="382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705200" y="1351080"/>
            <a:ext cx="532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1796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176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452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3072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520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0240" y="1466280"/>
            <a:ext cx="5205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03760" y="1571040"/>
            <a:ext cx="5364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02320" y="1680120"/>
            <a:ext cx="53496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03760" y="1772640"/>
            <a:ext cx="5317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90880" y="1346040"/>
            <a:ext cx="685800" cy="452160"/>
            <a:chOff x="3890880" y="1346040"/>
            <a:chExt cx="685800" cy="452160"/>
          </a:xfrm>
        </p:grpSpPr>
        <p:sp>
          <p:nvSpPr>
            <p:cNvPr id="101" name=""/>
            <p:cNvSpPr/>
            <p:nvPr/>
          </p:nvSpPr>
          <p:spPr>
            <a:xfrm>
              <a:off x="3890880" y="1346040"/>
              <a:ext cx="685800" cy="452160"/>
            </a:xfrm>
            <a:prstGeom prst="beve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12200" y="145080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C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 flipV="1">
            <a:off x="4245120" y="1796760"/>
            <a:ext cx="2880" cy="633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975200" y="1885680"/>
            <a:ext cx="3240" cy="54612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67400" y="5003640"/>
            <a:ext cx="685800" cy="436680"/>
            <a:chOff x="4667400" y="5003640"/>
            <a:chExt cx="685800" cy="436680"/>
          </a:xfrm>
        </p:grpSpPr>
        <p:sp>
          <p:nvSpPr>
            <p:cNvPr id="106" name=""/>
            <p:cNvSpPr/>
            <p:nvPr/>
          </p:nvSpPr>
          <p:spPr>
            <a:xfrm>
              <a:off x="4667400" y="5003640"/>
              <a:ext cx="685800" cy="43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5480" y="50320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905280" y="5003640"/>
            <a:ext cx="685800" cy="436320"/>
            <a:chOff x="3905280" y="5003640"/>
            <a:chExt cx="685800" cy="436320"/>
          </a:xfrm>
        </p:grpSpPr>
        <p:sp>
          <p:nvSpPr>
            <p:cNvPr id="109" name=""/>
            <p:cNvSpPr/>
            <p:nvPr/>
          </p:nvSpPr>
          <p:spPr>
            <a:xfrm>
              <a:off x="3905280" y="5003640"/>
              <a:ext cx="685800" cy="4363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9720" y="5032080"/>
              <a:ext cx="557280" cy="398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N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429160" y="5003640"/>
            <a:ext cx="685800" cy="436320"/>
            <a:chOff x="5429160" y="5003640"/>
            <a:chExt cx="685800" cy="436320"/>
          </a:xfrm>
        </p:grpSpPr>
        <p:sp>
          <p:nvSpPr>
            <p:cNvPr id="112" name=""/>
            <p:cNvSpPr/>
            <p:nvPr/>
          </p:nvSpPr>
          <p:spPr>
            <a:xfrm>
              <a:off x="5429160" y="5003640"/>
              <a:ext cx="685800" cy="4363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6840" y="5032080"/>
              <a:ext cx="557280" cy="398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N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613120" y="1270080"/>
            <a:ext cx="425880" cy="609480"/>
            <a:chOff x="5613120" y="1270080"/>
            <a:chExt cx="425880" cy="609480"/>
          </a:xfrm>
        </p:grpSpPr>
        <p:sp>
          <p:nvSpPr>
            <p:cNvPr id="115" name=""/>
            <p:cNvSpPr/>
            <p:nvPr/>
          </p:nvSpPr>
          <p:spPr>
            <a:xfrm rot="10800000">
              <a:off x="5727600" y="1270080"/>
              <a:ext cx="1522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03920" y="1650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42080" y="165096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613120" y="165096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86360" y="14511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86360" y="12985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702560" y="4811760"/>
            <a:ext cx="477720" cy="25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36040" y="4809960"/>
            <a:ext cx="46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新細明體"/>
              </a:rPr>
              <a:t>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02560" y="5214960"/>
            <a:ext cx="469800" cy="23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6360" y="5199120"/>
            <a:ext cx="49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新細明體"/>
              </a:rPr>
              <a:t>A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48240" y="5315040"/>
            <a:ext cx="1359000" cy="14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57920" y="4927680"/>
            <a:ext cx="963720" cy="79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343560" y="4374720"/>
            <a:ext cx="0" cy="947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28680" y="3382920"/>
            <a:ext cx="395280" cy="32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5760" y="3317760"/>
            <a:ext cx="142920" cy="125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3" y="0"/>
                </a:moveTo>
                <a:lnTo>
                  <a:pt x="38" y="0"/>
                </a:lnTo>
                <a:lnTo>
                  <a:pt x="35" y="0"/>
                </a:lnTo>
                <a:lnTo>
                  <a:pt x="30" y="1"/>
                </a:lnTo>
                <a:lnTo>
                  <a:pt x="26" y="4"/>
                </a:lnTo>
                <a:lnTo>
                  <a:pt x="23" y="5"/>
                </a:lnTo>
                <a:lnTo>
                  <a:pt x="19" y="7"/>
                </a:lnTo>
                <a:lnTo>
                  <a:pt x="16" y="10"/>
                </a:lnTo>
                <a:lnTo>
                  <a:pt x="13" y="12"/>
                </a:lnTo>
                <a:lnTo>
                  <a:pt x="10" y="16"/>
                </a:lnTo>
                <a:lnTo>
                  <a:pt x="7" y="18"/>
                </a:lnTo>
                <a:lnTo>
                  <a:pt x="6" y="22"/>
                </a:lnTo>
                <a:lnTo>
                  <a:pt x="4" y="26"/>
                </a:lnTo>
                <a:lnTo>
                  <a:pt x="3" y="30"/>
                </a:lnTo>
                <a:lnTo>
                  <a:pt x="1" y="33"/>
                </a:lnTo>
                <a:lnTo>
                  <a:pt x="0" y="38"/>
                </a:lnTo>
                <a:lnTo>
                  <a:pt x="0" y="42"/>
                </a:lnTo>
                <a:lnTo>
                  <a:pt x="0" y="47"/>
                </a:lnTo>
                <a:lnTo>
                  <a:pt x="1" y="51"/>
                </a:lnTo>
                <a:lnTo>
                  <a:pt x="3" y="55"/>
                </a:lnTo>
                <a:lnTo>
                  <a:pt x="4" y="59"/>
                </a:lnTo>
                <a:lnTo>
                  <a:pt x="6" y="62"/>
                </a:lnTo>
                <a:lnTo>
                  <a:pt x="7" y="66"/>
                </a:lnTo>
                <a:lnTo>
                  <a:pt x="10" y="69"/>
                </a:lnTo>
                <a:lnTo>
                  <a:pt x="13" y="73"/>
                </a:lnTo>
                <a:lnTo>
                  <a:pt x="16" y="75"/>
                </a:lnTo>
                <a:lnTo>
                  <a:pt x="19" y="78"/>
                </a:lnTo>
                <a:lnTo>
                  <a:pt x="23" y="80"/>
                </a:lnTo>
                <a:lnTo>
                  <a:pt x="26" y="81"/>
                </a:lnTo>
                <a:lnTo>
                  <a:pt x="30" y="82"/>
                </a:lnTo>
                <a:lnTo>
                  <a:pt x="35" y="84"/>
                </a:lnTo>
                <a:lnTo>
                  <a:pt x="38" y="85"/>
                </a:lnTo>
                <a:lnTo>
                  <a:pt x="43" y="85"/>
                </a:lnTo>
                <a:lnTo>
                  <a:pt x="47" y="85"/>
                </a:lnTo>
                <a:lnTo>
                  <a:pt x="51" y="84"/>
                </a:lnTo>
                <a:lnTo>
                  <a:pt x="55" y="82"/>
                </a:lnTo>
                <a:lnTo>
                  <a:pt x="60" y="81"/>
                </a:lnTo>
                <a:lnTo>
                  <a:pt x="63" y="80"/>
                </a:lnTo>
                <a:lnTo>
                  <a:pt x="67" y="78"/>
                </a:lnTo>
                <a:lnTo>
                  <a:pt x="71" y="75"/>
                </a:lnTo>
                <a:lnTo>
                  <a:pt x="73" y="73"/>
                </a:lnTo>
                <a:lnTo>
                  <a:pt x="75" y="69"/>
                </a:lnTo>
                <a:lnTo>
                  <a:pt x="78" y="66"/>
                </a:lnTo>
                <a:lnTo>
                  <a:pt x="80" y="62"/>
                </a:lnTo>
                <a:lnTo>
                  <a:pt x="82" y="59"/>
                </a:lnTo>
                <a:lnTo>
                  <a:pt x="84" y="55"/>
                </a:lnTo>
                <a:lnTo>
                  <a:pt x="85" y="51"/>
                </a:lnTo>
                <a:lnTo>
                  <a:pt x="85" y="47"/>
                </a:lnTo>
                <a:lnTo>
                  <a:pt x="85" y="42"/>
                </a:lnTo>
                <a:lnTo>
                  <a:pt x="85" y="38"/>
                </a:lnTo>
                <a:lnTo>
                  <a:pt x="85" y="33"/>
                </a:lnTo>
                <a:lnTo>
                  <a:pt x="84" y="30"/>
                </a:lnTo>
                <a:lnTo>
                  <a:pt x="82" y="26"/>
                </a:lnTo>
                <a:lnTo>
                  <a:pt x="80" y="22"/>
                </a:lnTo>
                <a:lnTo>
                  <a:pt x="78" y="18"/>
                </a:lnTo>
                <a:lnTo>
                  <a:pt x="75" y="16"/>
                </a:lnTo>
                <a:lnTo>
                  <a:pt x="73" y="12"/>
                </a:lnTo>
                <a:lnTo>
                  <a:pt x="71" y="10"/>
                </a:lnTo>
                <a:lnTo>
                  <a:pt x="67" y="7"/>
                </a:lnTo>
                <a:lnTo>
                  <a:pt x="63" y="5"/>
                </a:lnTo>
                <a:lnTo>
                  <a:pt x="60" y="4"/>
                </a:lnTo>
                <a:lnTo>
                  <a:pt x="55" y="1"/>
                </a:lnTo>
                <a:lnTo>
                  <a:pt x="51" y="0"/>
                </a:lnTo>
                <a:lnTo>
                  <a:pt x="47" y="0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5760" y="3317760"/>
            <a:ext cx="142920" cy="125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3" y="0"/>
                </a:moveTo>
                <a:lnTo>
                  <a:pt x="38" y="0"/>
                </a:lnTo>
                <a:lnTo>
                  <a:pt x="35" y="0"/>
                </a:lnTo>
                <a:lnTo>
                  <a:pt x="30" y="1"/>
                </a:lnTo>
                <a:lnTo>
                  <a:pt x="26" y="4"/>
                </a:lnTo>
                <a:lnTo>
                  <a:pt x="23" y="5"/>
                </a:lnTo>
                <a:lnTo>
                  <a:pt x="19" y="7"/>
                </a:lnTo>
                <a:lnTo>
                  <a:pt x="16" y="10"/>
                </a:lnTo>
                <a:lnTo>
                  <a:pt x="13" y="12"/>
                </a:lnTo>
                <a:lnTo>
                  <a:pt x="10" y="16"/>
                </a:lnTo>
                <a:lnTo>
                  <a:pt x="7" y="18"/>
                </a:lnTo>
                <a:lnTo>
                  <a:pt x="6" y="22"/>
                </a:lnTo>
                <a:lnTo>
                  <a:pt x="4" y="26"/>
                </a:lnTo>
                <a:lnTo>
                  <a:pt x="3" y="30"/>
                </a:lnTo>
                <a:lnTo>
                  <a:pt x="1" y="33"/>
                </a:lnTo>
                <a:lnTo>
                  <a:pt x="0" y="38"/>
                </a:lnTo>
                <a:lnTo>
                  <a:pt x="0" y="42"/>
                </a:lnTo>
                <a:lnTo>
                  <a:pt x="0" y="47"/>
                </a:lnTo>
                <a:lnTo>
                  <a:pt x="1" y="51"/>
                </a:lnTo>
                <a:lnTo>
                  <a:pt x="3" y="55"/>
                </a:lnTo>
                <a:lnTo>
                  <a:pt x="4" y="59"/>
                </a:lnTo>
                <a:lnTo>
                  <a:pt x="6" y="62"/>
                </a:lnTo>
                <a:lnTo>
                  <a:pt x="7" y="66"/>
                </a:lnTo>
                <a:lnTo>
                  <a:pt x="10" y="69"/>
                </a:lnTo>
                <a:lnTo>
                  <a:pt x="13" y="73"/>
                </a:lnTo>
                <a:lnTo>
                  <a:pt x="16" y="75"/>
                </a:lnTo>
                <a:lnTo>
                  <a:pt x="19" y="78"/>
                </a:lnTo>
                <a:lnTo>
                  <a:pt x="23" y="80"/>
                </a:lnTo>
                <a:lnTo>
                  <a:pt x="26" y="81"/>
                </a:lnTo>
                <a:lnTo>
                  <a:pt x="30" y="82"/>
                </a:lnTo>
                <a:lnTo>
                  <a:pt x="35" y="84"/>
                </a:lnTo>
                <a:lnTo>
                  <a:pt x="38" y="85"/>
                </a:lnTo>
                <a:lnTo>
                  <a:pt x="43" y="85"/>
                </a:lnTo>
                <a:lnTo>
                  <a:pt x="47" y="85"/>
                </a:lnTo>
                <a:lnTo>
                  <a:pt x="51" y="84"/>
                </a:lnTo>
                <a:lnTo>
                  <a:pt x="55" y="82"/>
                </a:lnTo>
                <a:lnTo>
                  <a:pt x="60" y="81"/>
                </a:lnTo>
                <a:lnTo>
                  <a:pt x="63" y="80"/>
                </a:lnTo>
                <a:lnTo>
                  <a:pt x="67" y="78"/>
                </a:lnTo>
                <a:lnTo>
                  <a:pt x="71" y="75"/>
                </a:lnTo>
                <a:lnTo>
                  <a:pt x="73" y="73"/>
                </a:lnTo>
                <a:lnTo>
                  <a:pt x="75" y="69"/>
                </a:lnTo>
                <a:lnTo>
                  <a:pt x="78" y="66"/>
                </a:lnTo>
                <a:lnTo>
                  <a:pt x="80" y="62"/>
                </a:lnTo>
                <a:lnTo>
                  <a:pt x="82" y="59"/>
                </a:lnTo>
                <a:lnTo>
                  <a:pt x="84" y="55"/>
                </a:lnTo>
                <a:lnTo>
                  <a:pt x="85" y="51"/>
                </a:lnTo>
                <a:lnTo>
                  <a:pt x="85" y="47"/>
                </a:lnTo>
                <a:lnTo>
                  <a:pt x="85" y="42"/>
                </a:lnTo>
                <a:lnTo>
                  <a:pt x="85" y="38"/>
                </a:lnTo>
                <a:lnTo>
                  <a:pt x="85" y="33"/>
                </a:lnTo>
                <a:lnTo>
                  <a:pt x="84" y="30"/>
                </a:lnTo>
                <a:lnTo>
                  <a:pt x="82" y="26"/>
                </a:lnTo>
                <a:lnTo>
                  <a:pt x="80" y="22"/>
                </a:lnTo>
                <a:lnTo>
                  <a:pt x="78" y="18"/>
                </a:lnTo>
                <a:lnTo>
                  <a:pt x="75" y="16"/>
                </a:lnTo>
                <a:lnTo>
                  <a:pt x="73" y="12"/>
                </a:lnTo>
                <a:lnTo>
                  <a:pt x="71" y="10"/>
                </a:lnTo>
                <a:lnTo>
                  <a:pt x="67" y="7"/>
                </a:lnTo>
                <a:lnTo>
                  <a:pt x="63" y="5"/>
                </a:lnTo>
                <a:lnTo>
                  <a:pt x="60" y="4"/>
                </a:lnTo>
                <a:lnTo>
                  <a:pt x="55" y="1"/>
                </a:lnTo>
                <a:lnTo>
                  <a:pt x="51" y="0"/>
                </a:lnTo>
                <a:lnTo>
                  <a:pt x="47" y="0"/>
                </a:lnTo>
                <a:lnTo>
                  <a:pt x="43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5080" y="3360600"/>
            <a:ext cx="47520" cy="39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1" y="0"/>
                </a:lnTo>
                <a:lnTo>
                  <a:pt x="8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2" y="21"/>
                </a:lnTo>
                <a:lnTo>
                  <a:pt x="3" y="24"/>
                </a:lnTo>
                <a:lnTo>
                  <a:pt x="6" y="25"/>
                </a:lnTo>
                <a:lnTo>
                  <a:pt x="8" y="26"/>
                </a:lnTo>
                <a:lnTo>
                  <a:pt x="11" y="27"/>
                </a:lnTo>
                <a:lnTo>
                  <a:pt x="14" y="27"/>
                </a:lnTo>
                <a:lnTo>
                  <a:pt x="16" y="27"/>
                </a:lnTo>
                <a:lnTo>
                  <a:pt x="19" y="26"/>
                </a:lnTo>
                <a:lnTo>
                  <a:pt x="21" y="25"/>
                </a:lnTo>
                <a:lnTo>
                  <a:pt x="24" y="24"/>
                </a:lnTo>
                <a:lnTo>
                  <a:pt x="26" y="21"/>
                </a:lnTo>
                <a:lnTo>
                  <a:pt x="27" y="19"/>
                </a:lnTo>
                <a:lnTo>
                  <a:pt x="27" y="16"/>
                </a:lnTo>
                <a:lnTo>
                  <a:pt x="28" y="13"/>
                </a:lnTo>
                <a:lnTo>
                  <a:pt x="27" y="10"/>
                </a:lnTo>
                <a:lnTo>
                  <a:pt x="27" y="8"/>
                </a:lnTo>
                <a:lnTo>
                  <a:pt x="26" y="6"/>
                </a:lnTo>
                <a:lnTo>
                  <a:pt x="24" y="3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35080" y="3360600"/>
            <a:ext cx="47520" cy="39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1" y="0"/>
                </a:lnTo>
                <a:lnTo>
                  <a:pt x="8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2" y="21"/>
                </a:lnTo>
                <a:lnTo>
                  <a:pt x="3" y="24"/>
                </a:lnTo>
                <a:lnTo>
                  <a:pt x="6" y="25"/>
                </a:lnTo>
                <a:lnTo>
                  <a:pt x="8" y="26"/>
                </a:lnTo>
                <a:lnTo>
                  <a:pt x="11" y="27"/>
                </a:lnTo>
                <a:lnTo>
                  <a:pt x="14" y="27"/>
                </a:lnTo>
                <a:lnTo>
                  <a:pt x="16" y="27"/>
                </a:lnTo>
                <a:lnTo>
                  <a:pt x="19" y="26"/>
                </a:lnTo>
                <a:lnTo>
                  <a:pt x="21" y="25"/>
                </a:lnTo>
                <a:lnTo>
                  <a:pt x="24" y="24"/>
                </a:lnTo>
                <a:lnTo>
                  <a:pt x="26" y="21"/>
                </a:lnTo>
                <a:lnTo>
                  <a:pt x="27" y="19"/>
                </a:lnTo>
                <a:lnTo>
                  <a:pt x="27" y="16"/>
                </a:lnTo>
                <a:lnTo>
                  <a:pt x="28" y="13"/>
                </a:lnTo>
                <a:lnTo>
                  <a:pt x="27" y="10"/>
                </a:lnTo>
                <a:lnTo>
                  <a:pt x="27" y="8"/>
                </a:lnTo>
                <a:lnTo>
                  <a:pt x="26" y="6"/>
                </a:lnTo>
                <a:lnTo>
                  <a:pt x="24" y="3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95680"/>
            <a:ext cx="141480" cy="125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43" y="0"/>
                </a:moveTo>
                <a:lnTo>
                  <a:pt x="46" y="0"/>
                </a:lnTo>
                <a:lnTo>
                  <a:pt x="51" y="0"/>
                </a:lnTo>
                <a:lnTo>
                  <a:pt x="55" y="2"/>
                </a:lnTo>
                <a:lnTo>
                  <a:pt x="59" y="4"/>
                </a:lnTo>
                <a:lnTo>
                  <a:pt x="63" y="5"/>
                </a:lnTo>
                <a:lnTo>
                  <a:pt x="67" y="7"/>
                </a:lnTo>
                <a:lnTo>
                  <a:pt x="70" y="10"/>
                </a:lnTo>
                <a:lnTo>
                  <a:pt x="72" y="12"/>
                </a:lnTo>
                <a:lnTo>
                  <a:pt x="75" y="16"/>
                </a:lnTo>
                <a:lnTo>
                  <a:pt x="77" y="18"/>
                </a:lnTo>
                <a:lnTo>
                  <a:pt x="80" y="22"/>
                </a:lnTo>
                <a:lnTo>
                  <a:pt x="82" y="27"/>
                </a:lnTo>
                <a:lnTo>
                  <a:pt x="83" y="30"/>
                </a:lnTo>
                <a:lnTo>
                  <a:pt x="84" y="34"/>
                </a:lnTo>
                <a:lnTo>
                  <a:pt x="84" y="39"/>
                </a:lnTo>
                <a:lnTo>
                  <a:pt x="84" y="42"/>
                </a:lnTo>
                <a:lnTo>
                  <a:pt x="84" y="47"/>
                </a:lnTo>
                <a:lnTo>
                  <a:pt x="84" y="52"/>
                </a:lnTo>
                <a:lnTo>
                  <a:pt x="83" y="55"/>
                </a:lnTo>
                <a:lnTo>
                  <a:pt x="82" y="59"/>
                </a:lnTo>
                <a:lnTo>
                  <a:pt x="80" y="62"/>
                </a:lnTo>
                <a:lnTo>
                  <a:pt x="77" y="66"/>
                </a:lnTo>
                <a:lnTo>
                  <a:pt x="75" y="70"/>
                </a:lnTo>
                <a:lnTo>
                  <a:pt x="72" y="73"/>
                </a:lnTo>
                <a:lnTo>
                  <a:pt x="70" y="76"/>
                </a:lnTo>
                <a:lnTo>
                  <a:pt x="67" y="78"/>
                </a:lnTo>
                <a:lnTo>
                  <a:pt x="63" y="80"/>
                </a:lnTo>
                <a:lnTo>
                  <a:pt x="59" y="82"/>
                </a:lnTo>
                <a:lnTo>
                  <a:pt x="55" y="83"/>
                </a:lnTo>
                <a:lnTo>
                  <a:pt x="51" y="84"/>
                </a:lnTo>
                <a:lnTo>
                  <a:pt x="46" y="85"/>
                </a:lnTo>
                <a:lnTo>
                  <a:pt x="43" y="85"/>
                </a:lnTo>
                <a:lnTo>
                  <a:pt x="38" y="85"/>
                </a:lnTo>
                <a:lnTo>
                  <a:pt x="34" y="84"/>
                </a:lnTo>
                <a:lnTo>
                  <a:pt x="30" y="83"/>
                </a:lnTo>
                <a:lnTo>
                  <a:pt x="26" y="82"/>
                </a:lnTo>
                <a:lnTo>
                  <a:pt x="22" y="80"/>
                </a:lnTo>
                <a:lnTo>
                  <a:pt x="19" y="78"/>
                </a:lnTo>
                <a:lnTo>
                  <a:pt x="15" y="76"/>
                </a:lnTo>
                <a:lnTo>
                  <a:pt x="13" y="73"/>
                </a:lnTo>
                <a:lnTo>
                  <a:pt x="9" y="70"/>
                </a:lnTo>
                <a:lnTo>
                  <a:pt x="7" y="66"/>
                </a:lnTo>
                <a:lnTo>
                  <a:pt x="6" y="62"/>
                </a:lnTo>
                <a:lnTo>
                  <a:pt x="3" y="59"/>
                </a:lnTo>
                <a:lnTo>
                  <a:pt x="2" y="55"/>
                </a:lnTo>
                <a:lnTo>
                  <a:pt x="1" y="52"/>
                </a:lnTo>
                <a:lnTo>
                  <a:pt x="0" y="47"/>
                </a:lnTo>
                <a:lnTo>
                  <a:pt x="0" y="42"/>
                </a:lnTo>
                <a:lnTo>
                  <a:pt x="0" y="39"/>
                </a:lnTo>
                <a:lnTo>
                  <a:pt x="1" y="34"/>
                </a:lnTo>
                <a:lnTo>
                  <a:pt x="2" y="30"/>
                </a:lnTo>
                <a:lnTo>
                  <a:pt x="3" y="27"/>
                </a:lnTo>
                <a:lnTo>
                  <a:pt x="6" y="22"/>
                </a:lnTo>
                <a:lnTo>
                  <a:pt x="7" y="18"/>
                </a:lnTo>
                <a:lnTo>
                  <a:pt x="9" y="16"/>
                </a:lnTo>
                <a:lnTo>
                  <a:pt x="13" y="12"/>
                </a:lnTo>
                <a:lnTo>
                  <a:pt x="15" y="10"/>
                </a:lnTo>
                <a:lnTo>
                  <a:pt x="19" y="7"/>
                </a:lnTo>
                <a:lnTo>
                  <a:pt x="22" y="5"/>
                </a:lnTo>
                <a:lnTo>
                  <a:pt x="26" y="4"/>
                </a:lnTo>
                <a:lnTo>
                  <a:pt x="30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832200"/>
            <a:ext cx="141480" cy="125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43" y="0"/>
                </a:moveTo>
                <a:lnTo>
                  <a:pt x="46" y="0"/>
                </a:lnTo>
                <a:lnTo>
                  <a:pt x="51" y="0"/>
                </a:lnTo>
                <a:lnTo>
                  <a:pt x="55" y="2"/>
                </a:lnTo>
                <a:lnTo>
                  <a:pt x="59" y="4"/>
                </a:lnTo>
                <a:lnTo>
                  <a:pt x="63" y="5"/>
                </a:lnTo>
                <a:lnTo>
                  <a:pt x="67" y="7"/>
                </a:lnTo>
                <a:lnTo>
                  <a:pt x="70" y="10"/>
                </a:lnTo>
                <a:lnTo>
                  <a:pt x="72" y="12"/>
                </a:lnTo>
                <a:lnTo>
                  <a:pt x="75" y="16"/>
                </a:lnTo>
                <a:lnTo>
                  <a:pt x="77" y="18"/>
                </a:lnTo>
                <a:lnTo>
                  <a:pt x="80" y="22"/>
                </a:lnTo>
                <a:lnTo>
                  <a:pt x="82" y="27"/>
                </a:lnTo>
                <a:lnTo>
                  <a:pt x="83" y="30"/>
                </a:lnTo>
                <a:lnTo>
                  <a:pt x="84" y="34"/>
                </a:lnTo>
                <a:lnTo>
                  <a:pt x="84" y="39"/>
                </a:lnTo>
                <a:lnTo>
                  <a:pt x="84" y="42"/>
                </a:lnTo>
                <a:lnTo>
                  <a:pt x="84" y="47"/>
                </a:lnTo>
                <a:lnTo>
                  <a:pt x="84" y="52"/>
                </a:lnTo>
                <a:lnTo>
                  <a:pt x="83" y="55"/>
                </a:lnTo>
                <a:lnTo>
                  <a:pt x="82" y="59"/>
                </a:lnTo>
                <a:lnTo>
                  <a:pt x="80" y="62"/>
                </a:lnTo>
                <a:lnTo>
                  <a:pt x="77" y="66"/>
                </a:lnTo>
                <a:lnTo>
                  <a:pt x="75" y="70"/>
                </a:lnTo>
                <a:lnTo>
                  <a:pt x="72" y="73"/>
                </a:lnTo>
                <a:lnTo>
                  <a:pt x="70" y="76"/>
                </a:lnTo>
                <a:lnTo>
                  <a:pt x="67" y="78"/>
                </a:lnTo>
                <a:lnTo>
                  <a:pt x="63" y="80"/>
                </a:lnTo>
                <a:lnTo>
                  <a:pt x="59" y="82"/>
                </a:lnTo>
                <a:lnTo>
                  <a:pt x="55" y="83"/>
                </a:lnTo>
                <a:lnTo>
                  <a:pt x="51" y="84"/>
                </a:lnTo>
                <a:lnTo>
                  <a:pt x="46" y="85"/>
                </a:lnTo>
                <a:lnTo>
                  <a:pt x="43" y="85"/>
                </a:lnTo>
                <a:lnTo>
                  <a:pt x="38" y="85"/>
                </a:lnTo>
                <a:lnTo>
                  <a:pt x="34" y="84"/>
                </a:lnTo>
                <a:lnTo>
                  <a:pt x="30" y="83"/>
                </a:lnTo>
                <a:lnTo>
                  <a:pt x="26" y="82"/>
                </a:lnTo>
                <a:lnTo>
                  <a:pt x="22" y="80"/>
                </a:lnTo>
                <a:lnTo>
                  <a:pt x="19" y="78"/>
                </a:lnTo>
                <a:lnTo>
                  <a:pt x="15" y="76"/>
                </a:lnTo>
                <a:lnTo>
                  <a:pt x="13" y="73"/>
                </a:lnTo>
                <a:lnTo>
                  <a:pt x="9" y="70"/>
                </a:lnTo>
                <a:lnTo>
                  <a:pt x="7" y="66"/>
                </a:lnTo>
                <a:lnTo>
                  <a:pt x="6" y="62"/>
                </a:lnTo>
                <a:lnTo>
                  <a:pt x="3" y="59"/>
                </a:lnTo>
                <a:lnTo>
                  <a:pt x="2" y="55"/>
                </a:lnTo>
                <a:lnTo>
                  <a:pt x="1" y="52"/>
                </a:lnTo>
                <a:lnTo>
                  <a:pt x="0" y="47"/>
                </a:lnTo>
                <a:lnTo>
                  <a:pt x="0" y="42"/>
                </a:lnTo>
                <a:lnTo>
                  <a:pt x="0" y="39"/>
                </a:lnTo>
                <a:lnTo>
                  <a:pt x="1" y="34"/>
                </a:lnTo>
                <a:lnTo>
                  <a:pt x="2" y="30"/>
                </a:lnTo>
                <a:lnTo>
                  <a:pt x="3" y="27"/>
                </a:lnTo>
                <a:lnTo>
                  <a:pt x="6" y="22"/>
                </a:lnTo>
                <a:lnTo>
                  <a:pt x="7" y="18"/>
                </a:lnTo>
                <a:lnTo>
                  <a:pt x="9" y="16"/>
                </a:lnTo>
                <a:lnTo>
                  <a:pt x="13" y="12"/>
                </a:lnTo>
                <a:lnTo>
                  <a:pt x="15" y="10"/>
                </a:lnTo>
                <a:lnTo>
                  <a:pt x="19" y="7"/>
                </a:lnTo>
                <a:lnTo>
                  <a:pt x="22" y="5"/>
                </a:lnTo>
                <a:lnTo>
                  <a:pt x="26" y="4"/>
                </a:lnTo>
                <a:lnTo>
                  <a:pt x="30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22280" y="3825720"/>
            <a:ext cx="1800" cy="1256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334880" y="3889440"/>
            <a:ext cx="298440" cy="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6200000">
            <a:off x="797400" y="2263320"/>
            <a:ext cx="44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32 k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39040" y="2304720"/>
            <a:ext cx="489600" cy="170280"/>
            <a:chOff x="1139040" y="2304720"/>
            <a:chExt cx="489600" cy="170280"/>
          </a:xfrm>
        </p:grpSpPr>
        <p:sp>
          <p:nvSpPr>
            <p:cNvPr id="139" name=""/>
            <p:cNvSpPr/>
            <p:nvPr/>
          </p:nvSpPr>
          <p:spPr>
            <a:xfrm rot="5400000">
              <a:off x="1218240" y="232812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6200000">
              <a:off x="1187640" y="2314440"/>
              <a:ext cx="525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16200000">
              <a:off x="1187640" y="2314440"/>
              <a:ext cx="52560" cy="150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39040" y="2432160"/>
              <a:ext cx="15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9760" y="2349360"/>
              <a:ext cx="1540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224000" y="230472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224000" y="2432160"/>
              <a:ext cx="1440" cy="3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23280" y="2475000"/>
              <a:ext cx="3999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24000" y="2306520"/>
              <a:ext cx="4046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117080" y="324648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5120" y="268776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4"/>
                </a:lnTo>
                <a:lnTo>
                  <a:pt x="3" y="5"/>
                </a:lnTo>
                <a:lnTo>
                  <a:pt x="2" y="9"/>
                </a:lnTo>
                <a:lnTo>
                  <a:pt x="1" y="11"/>
                </a:lnTo>
                <a:lnTo>
                  <a:pt x="0" y="15"/>
                </a:lnTo>
                <a:lnTo>
                  <a:pt x="0" y="18"/>
                </a:lnTo>
                <a:lnTo>
                  <a:pt x="0" y="22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6" y="32"/>
                </a:lnTo>
                <a:lnTo>
                  <a:pt x="8" y="35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5"/>
                </a:lnTo>
                <a:lnTo>
                  <a:pt x="21" y="32"/>
                </a:lnTo>
                <a:lnTo>
                  <a:pt x="24" y="31"/>
                </a:lnTo>
                <a:lnTo>
                  <a:pt x="25" y="28"/>
                </a:lnTo>
                <a:lnTo>
                  <a:pt x="27" y="25"/>
                </a:lnTo>
                <a:lnTo>
                  <a:pt x="27" y="22"/>
                </a:lnTo>
                <a:lnTo>
                  <a:pt x="27" y="18"/>
                </a:lnTo>
                <a:lnTo>
                  <a:pt x="27" y="15"/>
                </a:lnTo>
                <a:lnTo>
                  <a:pt x="27" y="11"/>
                </a:lnTo>
                <a:lnTo>
                  <a:pt x="25" y="9"/>
                </a:lnTo>
                <a:lnTo>
                  <a:pt x="24" y="5"/>
                </a:lnTo>
                <a:lnTo>
                  <a:pt x="21" y="4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5120" y="268776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4"/>
                </a:lnTo>
                <a:lnTo>
                  <a:pt x="3" y="5"/>
                </a:lnTo>
                <a:lnTo>
                  <a:pt x="2" y="9"/>
                </a:lnTo>
                <a:lnTo>
                  <a:pt x="1" y="11"/>
                </a:lnTo>
                <a:lnTo>
                  <a:pt x="0" y="15"/>
                </a:lnTo>
                <a:lnTo>
                  <a:pt x="0" y="18"/>
                </a:lnTo>
                <a:lnTo>
                  <a:pt x="0" y="22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6" y="32"/>
                </a:lnTo>
                <a:lnTo>
                  <a:pt x="8" y="35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5"/>
                </a:lnTo>
                <a:lnTo>
                  <a:pt x="21" y="32"/>
                </a:lnTo>
                <a:lnTo>
                  <a:pt x="24" y="31"/>
                </a:lnTo>
                <a:lnTo>
                  <a:pt x="25" y="28"/>
                </a:lnTo>
                <a:lnTo>
                  <a:pt x="27" y="25"/>
                </a:lnTo>
                <a:lnTo>
                  <a:pt x="27" y="22"/>
                </a:lnTo>
                <a:lnTo>
                  <a:pt x="27" y="18"/>
                </a:lnTo>
                <a:lnTo>
                  <a:pt x="27" y="15"/>
                </a:lnTo>
                <a:lnTo>
                  <a:pt x="27" y="11"/>
                </a:lnTo>
                <a:lnTo>
                  <a:pt x="25" y="9"/>
                </a:lnTo>
                <a:lnTo>
                  <a:pt x="24" y="5"/>
                </a:lnTo>
                <a:lnTo>
                  <a:pt x="21" y="4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65120" y="281952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3"/>
                </a:lnTo>
                <a:lnTo>
                  <a:pt x="3" y="5"/>
                </a:lnTo>
                <a:lnTo>
                  <a:pt x="2" y="8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0" y="21"/>
                </a:lnTo>
                <a:lnTo>
                  <a:pt x="1" y="25"/>
                </a:lnTo>
                <a:lnTo>
                  <a:pt x="2" y="27"/>
                </a:lnTo>
                <a:lnTo>
                  <a:pt x="3" y="31"/>
                </a:lnTo>
                <a:lnTo>
                  <a:pt x="6" y="32"/>
                </a:lnTo>
                <a:lnTo>
                  <a:pt x="8" y="34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4"/>
                </a:lnTo>
                <a:lnTo>
                  <a:pt x="21" y="32"/>
                </a:lnTo>
                <a:lnTo>
                  <a:pt x="24" y="31"/>
                </a:lnTo>
                <a:lnTo>
                  <a:pt x="25" y="27"/>
                </a:lnTo>
                <a:lnTo>
                  <a:pt x="27" y="25"/>
                </a:lnTo>
                <a:lnTo>
                  <a:pt x="27" y="21"/>
                </a:lnTo>
                <a:lnTo>
                  <a:pt x="27" y="18"/>
                </a:lnTo>
                <a:lnTo>
                  <a:pt x="27" y="14"/>
                </a:lnTo>
                <a:lnTo>
                  <a:pt x="27" y="10"/>
                </a:lnTo>
                <a:lnTo>
                  <a:pt x="25" y="8"/>
                </a:lnTo>
                <a:lnTo>
                  <a:pt x="24" y="5"/>
                </a:lnTo>
                <a:lnTo>
                  <a:pt x="21" y="3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65120" y="281952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3"/>
                </a:lnTo>
                <a:lnTo>
                  <a:pt x="3" y="5"/>
                </a:lnTo>
                <a:lnTo>
                  <a:pt x="2" y="8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0" y="21"/>
                </a:lnTo>
                <a:lnTo>
                  <a:pt x="1" y="25"/>
                </a:lnTo>
                <a:lnTo>
                  <a:pt x="2" y="27"/>
                </a:lnTo>
                <a:lnTo>
                  <a:pt x="3" y="31"/>
                </a:lnTo>
                <a:lnTo>
                  <a:pt x="6" y="32"/>
                </a:lnTo>
                <a:lnTo>
                  <a:pt x="8" y="34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4"/>
                </a:lnTo>
                <a:lnTo>
                  <a:pt x="21" y="32"/>
                </a:lnTo>
                <a:lnTo>
                  <a:pt x="24" y="31"/>
                </a:lnTo>
                <a:lnTo>
                  <a:pt x="25" y="27"/>
                </a:lnTo>
                <a:lnTo>
                  <a:pt x="27" y="25"/>
                </a:lnTo>
                <a:lnTo>
                  <a:pt x="27" y="21"/>
                </a:lnTo>
                <a:lnTo>
                  <a:pt x="27" y="18"/>
                </a:lnTo>
                <a:lnTo>
                  <a:pt x="27" y="14"/>
                </a:lnTo>
                <a:lnTo>
                  <a:pt x="27" y="10"/>
                </a:lnTo>
                <a:lnTo>
                  <a:pt x="25" y="8"/>
                </a:lnTo>
                <a:lnTo>
                  <a:pt x="24" y="5"/>
                </a:lnTo>
                <a:lnTo>
                  <a:pt x="21" y="3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66840" y="2739960"/>
            <a:ext cx="73080" cy="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66840" y="2739960"/>
            <a:ext cx="73080" cy="79560"/>
          </a:xfrm>
          <a:prstGeom prst="rect">
            <a:avLst/>
          </a:prstGeom>
          <a:noFill/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9920" y="2687760"/>
            <a:ext cx="1440" cy="18396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409760" y="2715840"/>
            <a:ext cx="217440" cy="468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84200" y="2878200"/>
            <a:ext cx="1800" cy="824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36680" y="2960640"/>
            <a:ext cx="93600" cy="180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6080" y="2673360"/>
            <a:ext cx="48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On/O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9960" y="26733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263600" y="3603240"/>
            <a:ext cx="360360" cy="468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6360" y="3568680"/>
            <a:ext cx="5724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06360" y="3568680"/>
            <a:ext cx="57240" cy="95400"/>
          </a:xfrm>
          <a:prstGeom prst="rect">
            <a:avLst/>
          </a:prstGeom>
          <a:noFill/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118880" y="3508200"/>
            <a:ext cx="82440" cy="6192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118880" y="3664080"/>
            <a:ext cx="82440" cy="5220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9240" y="3508200"/>
            <a:ext cx="1440" cy="20808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6160" y="36306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1040" y="237492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4280" y="4367160"/>
            <a:ext cx="26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36160" y="43671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68560" y="4384800"/>
            <a:ext cx="87120" cy="129960"/>
          </a:xfrm>
          <a:custGeom>
            <a:avLst/>
            <a:gdLst/>
            <a:ahLst/>
            <a:rect l="l" t="t" r="r" b="b"/>
            <a:pathLst>
              <a:path w="52" h="88">
                <a:moveTo>
                  <a:pt x="51" y="88"/>
                </a:moveTo>
                <a:lnTo>
                  <a:pt x="50" y="88"/>
                </a:lnTo>
                <a:lnTo>
                  <a:pt x="45" y="88"/>
                </a:lnTo>
                <a:lnTo>
                  <a:pt x="41" y="87"/>
                </a:lnTo>
                <a:lnTo>
                  <a:pt x="36" y="86"/>
                </a:lnTo>
                <a:lnTo>
                  <a:pt x="31" y="85"/>
                </a:lnTo>
                <a:lnTo>
                  <a:pt x="26" y="84"/>
                </a:lnTo>
                <a:lnTo>
                  <a:pt x="23" y="81"/>
                </a:lnTo>
                <a:lnTo>
                  <a:pt x="19" y="79"/>
                </a:lnTo>
                <a:lnTo>
                  <a:pt x="16" y="75"/>
                </a:lnTo>
                <a:lnTo>
                  <a:pt x="12" y="73"/>
                </a:lnTo>
                <a:lnTo>
                  <a:pt x="10" y="69"/>
                </a:lnTo>
                <a:lnTo>
                  <a:pt x="6" y="66"/>
                </a:lnTo>
                <a:lnTo>
                  <a:pt x="5" y="61"/>
                </a:lnTo>
                <a:lnTo>
                  <a:pt x="2" y="57"/>
                </a:lnTo>
                <a:lnTo>
                  <a:pt x="1" y="54"/>
                </a:lnTo>
                <a:lnTo>
                  <a:pt x="1" y="49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1"/>
                </a:lnTo>
                <a:lnTo>
                  <a:pt x="5" y="28"/>
                </a:lnTo>
                <a:lnTo>
                  <a:pt x="6" y="24"/>
                </a:lnTo>
                <a:lnTo>
                  <a:pt x="10" y="19"/>
                </a:lnTo>
                <a:lnTo>
                  <a:pt x="12" y="17"/>
                </a:lnTo>
                <a:lnTo>
                  <a:pt x="16" y="13"/>
                </a:lnTo>
                <a:lnTo>
                  <a:pt x="19" y="11"/>
                </a:lnTo>
                <a:lnTo>
                  <a:pt x="23" y="8"/>
                </a:lnTo>
                <a:lnTo>
                  <a:pt x="26" y="6"/>
                </a:lnTo>
                <a:lnTo>
                  <a:pt x="31" y="4"/>
                </a:lnTo>
                <a:lnTo>
                  <a:pt x="36" y="2"/>
                </a:lnTo>
                <a:lnTo>
                  <a:pt x="41" y="1"/>
                </a:lnTo>
                <a:lnTo>
                  <a:pt x="45" y="0"/>
                </a:lnTo>
                <a:lnTo>
                  <a:pt x="50" y="0"/>
                </a:lnTo>
                <a:lnTo>
                  <a:pt x="52" y="0"/>
                </a:lnTo>
                <a:lnTo>
                  <a:pt x="50" y="44"/>
                </a:lnTo>
                <a:lnTo>
                  <a:pt x="51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8560" y="4384800"/>
            <a:ext cx="87120" cy="129960"/>
          </a:xfrm>
          <a:custGeom>
            <a:avLst/>
            <a:gdLst/>
            <a:ahLst/>
            <a:rect l="l" t="t" r="r" b="b"/>
            <a:pathLst>
              <a:path w="52" h="88">
                <a:moveTo>
                  <a:pt x="51" y="88"/>
                </a:moveTo>
                <a:lnTo>
                  <a:pt x="50" y="88"/>
                </a:lnTo>
                <a:lnTo>
                  <a:pt x="45" y="88"/>
                </a:lnTo>
                <a:lnTo>
                  <a:pt x="41" y="87"/>
                </a:lnTo>
                <a:lnTo>
                  <a:pt x="36" y="86"/>
                </a:lnTo>
                <a:lnTo>
                  <a:pt x="31" y="85"/>
                </a:lnTo>
                <a:lnTo>
                  <a:pt x="26" y="84"/>
                </a:lnTo>
                <a:lnTo>
                  <a:pt x="23" y="81"/>
                </a:lnTo>
                <a:lnTo>
                  <a:pt x="19" y="79"/>
                </a:lnTo>
                <a:lnTo>
                  <a:pt x="16" y="75"/>
                </a:lnTo>
                <a:lnTo>
                  <a:pt x="12" y="73"/>
                </a:lnTo>
                <a:lnTo>
                  <a:pt x="10" y="69"/>
                </a:lnTo>
                <a:lnTo>
                  <a:pt x="6" y="66"/>
                </a:lnTo>
                <a:lnTo>
                  <a:pt x="5" y="61"/>
                </a:lnTo>
                <a:lnTo>
                  <a:pt x="2" y="57"/>
                </a:lnTo>
                <a:lnTo>
                  <a:pt x="1" y="54"/>
                </a:lnTo>
                <a:lnTo>
                  <a:pt x="1" y="49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1"/>
                </a:lnTo>
                <a:lnTo>
                  <a:pt x="5" y="28"/>
                </a:lnTo>
                <a:lnTo>
                  <a:pt x="6" y="24"/>
                </a:lnTo>
                <a:lnTo>
                  <a:pt x="10" y="19"/>
                </a:lnTo>
                <a:lnTo>
                  <a:pt x="12" y="17"/>
                </a:lnTo>
                <a:lnTo>
                  <a:pt x="16" y="13"/>
                </a:lnTo>
                <a:lnTo>
                  <a:pt x="19" y="11"/>
                </a:lnTo>
                <a:lnTo>
                  <a:pt x="23" y="8"/>
                </a:lnTo>
                <a:lnTo>
                  <a:pt x="26" y="6"/>
                </a:lnTo>
                <a:lnTo>
                  <a:pt x="31" y="4"/>
                </a:lnTo>
                <a:lnTo>
                  <a:pt x="36" y="2"/>
                </a:lnTo>
                <a:lnTo>
                  <a:pt x="41" y="1"/>
                </a:lnTo>
                <a:lnTo>
                  <a:pt x="45" y="0"/>
                </a:lnTo>
                <a:lnTo>
                  <a:pt x="50" y="0"/>
                </a:lnTo>
                <a:lnTo>
                  <a:pt x="52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05000" y="4367160"/>
            <a:ext cx="54000" cy="1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05000" y="4367160"/>
            <a:ext cx="54000" cy="166680"/>
          </a:xfrm>
          <a:prstGeom prst="rect">
            <a:avLst/>
          </a:prstGeom>
          <a:noFill/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5680" y="4384800"/>
            <a:ext cx="49320" cy="14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55680" y="4514760"/>
            <a:ext cx="49320" cy="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358640" y="4449600"/>
            <a:ext cx="266760" cy="180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4240" y="4398840"/>
            <a:ext cx="5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97400" y="2043000"/>
            <a:ext cx="111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5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Trebuchet MS"/>
                <a:ea typeface="新細明體"/>
              </a:rPr>
              <a:t>TRITON L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63160" y="248904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3160" y="26208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21800" y="27576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880" y="30510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63160" y="27576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14080" y="304812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1040" y="441648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4600" y="34290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75920" y="358632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3160" y="41385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3160" y="430524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3160" y="44751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40240" y="4389480"/>
            <a:ext cx="55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ADC au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800680" y="1891800"/>
            <a:ext cx="3240" cy="53820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19200" y="4013280"/>
            <a:ext cx="37944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Bus Cnt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73400" y="2697120"/>
            <a:ext cx="1933560" cy="16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04960" y="2376360"/>
            <a:ext cx="5040" cy="1640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38480" y="4152960"/>
            <a:ext cx="176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9640" y="3816360"/>
            <a:ext cx="36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41720" y="3398760"/>
            <a:ext cx="36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06400" y="2251080"/>
            <a:ext cx="508320" cy="276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rebuchet MS"/>
                <a:ea typeface="新細明體"/>
              </a:rPr>
              <a:t>RT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34880" y="2101680"/>
            <a:ext cx="83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rebuchet MS"/>
                <a:ea typeface="新細明體"/>
              </a:rPr>
              <a:t>LOCOS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38640" y="3638520"/>
            <a:ext cx="1757520" cy="696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70320" y="4030560"/>
            <a:ext cx="681120" cy="2113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EM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04040" y="4236840"/>
            <a:ext cx="447840" cy="774000"/>
            <a:chOff x="4604040" y="4236840"/>
            <a:chExt cx="447840" cy="774000"/>
          </a:xfrm>
        </p:grpSpPr>
        <p:sp>
          <p:nvSpPr>
            <p:cNvPr id="205" name=""/>
            <p:cNvSpPr/>
            <p:nvPr/>
          </p:nvSpPr>
          <p:spPr>
            <a:xfrm flipV="1">
              <a:off x="5051520" y="4623840"/>
              <a:ext cx="0" cy="3870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04400" y="4624200"/>
              <a:ext cx="44748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604040" y="4236840"/>
              <a:ext cx="0" cy="3870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133880" y="2768760"/>
            <a:ext cx="72396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ARM7TDM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052600" y="2914560"/>
            <a:ext cx="9720" cy="62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29240" y="3548160"/>
            <a:ext cx="10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8920" y="3544920"/>
            <a:ext cx="972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7440" y="3475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3600" y="2881440"/>
            <a:ext cx="171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219400" y="2381400"/>
            <a:ext cx="38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99280" y="4206960"/>
            <a:ext cx="1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3240" y="306864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13 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964960" y="3119400"/>
            <a:ext cx="6397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0360" y="2679840"/>
            <a:ext cx="409680" cy="531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ULP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38280" y="2744280"/>
            <a:ext cx="1162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425680" y="2987640"/>
            <a:ext cx="116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07080" y="2608200"/>
            <a:ext cx="41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  <a:ea typeface="新細明體"/>
              </a:rPr>
              <a:t>On_n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28600" y="2849400"/>
            <a:ext cx="60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  <a:ea typeface="新細明體"/>
              </a:rPr>
              <a:t>Wakeup_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29640" y="2028960"/>
            <a:ext cx="9360" cy="16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62000" y="51246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19440" y="5353200"/>
            <a:ext cx="27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4200" y="5405400"/>
            <a:ext cx="8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3800" y="54118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9800" y="56246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06760" y="51307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63840" y="5359320"/>
            <a:ext cx="27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68600" y="5411880"/>
            <a:ext cx="8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8200" y="54180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4200" y="56307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8440" y="5443560"/>
            <a:ext cx="33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MB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43600" y="5430960"/>
            <a:ext cx="18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2160" y="4413240"/>
            <a:ext cx="379440" cy="2732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620800" y="4296960"/>
            <a:ext cx="0" cy="1126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4064040"/>
            <a:ext cx="40500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805120" y="4554360"/>
            <a:ext cx="10303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835440" y="4335120"/>
            <a:ext cx="1440" cy="22068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2360" y="243684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L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72160" y="243684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K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97640" y="243828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am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73880" y="4611600"/>
            <a:ext cx="1200240" cy="124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85120" y="556272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  <a:ea typeface="新細明體"/>
              </a:rPr>
              <a:t>Companion Chip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597280" y="4235040"/>
            <a:ext cx="3240" cy="76356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7280" y="4040280"/>
            <a:ext cx="680760" cy="204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NandFlash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05040" y="3257640"/>
            <a:ext cx="409680" cy="341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85760" y="1549440"/>
            <a:ext cx="56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rebuchet MS"/>
                <a:ea typeface="新細明體"/>
              </a:rPr>
              <a:t>Key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67200" y="29433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02160" y="3625920"/>
            <a:ext cx="409320" cy="322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V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724440" y="1837440"/>
            <a:ext cx="169560" cy="489600"/>
            <a:chOff x="6724440" y="1837440"/>
            <a:chExt cx="169560" cy="489600"/>
          </a:xfrm>
        </p:grpSpPr>
        <p:sp>
          <p:nvSpPr>
            <p:cNvPr id="253" name=""/>
            <p:cNvSpPr/>
            <p:nvPr/>
          </p:nvSpPr>
          <p:spPr>
            <a:xfrm rot="10800000">
              <a:off x="6768720" y="185148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783120" y="1837440"/>
              <a:ext cx="522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783120" y="1837440"/>
              <a:ext cx="52200" cy="150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66200" y="1837440"/>
              <a:ext cx="1080" cy="15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0080" y="1838160"/>
              <a:ext cx="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2960" y="1922400"/>
              <a:ext cx="41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28400" y="1922400"/>
              <a:ext cx="3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24440" y="1921680"/>
              <a:ext cx="0" cy="399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92920" y="1922400"/>
              <a:ext cx="0" cy="40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536880" y="1650960"/>
            <a:ext cx="49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26 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68960" y="2610000"/>
            <a:ext cx="895320" cy="1160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269568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rebuchet MS"/>
                <a:ea typeface="新細明體"/>
              </a:rPr>
              <a:t>DR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9640" y="4098960"/>
            <a:ext cx="40500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50000" y="4381200"/>
            <a:ext cx="9720" cy="547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73960" y="4105440"/>
            <a:ext cx="40464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Mc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73960" y="3838680"/>
            <a:ext cx="40464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U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200320" y="2334960"/>
            <a:ext cx="4449600" cy="284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55600" y="2170080"/>
            <a:ext cx="50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32 K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35880" y="2360520"/>
            <a:ext cx="2880" cy="26208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2920" y="242424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S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7384680" y="1784160"/>
            <a:ext cx="3240" cy="633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942240" y="1257480"/>
            <a:ext cx="915840" cy="528120"/>
            <a:chOff x="6942240" y="1257480"/>
            <a:chExt cx="915840" cy="528120"/>
          </a:xfrm>
        </p:grpSpPr>
        <p:sp>
          <p:nvSpPr>
            <p:cNvPr id="275" name=""/>
            <p:cNvSpPr/>
            <p:nvPr/>
          </p:nvSpPr>
          <p:spPr>
            <a:xfrm>
              <a:off x="7061760" y="1257480"/>
              <a:ext cx="671400" cy="528120"/>
            </a:xfrm>
            <a:prstGeom prst="beve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42240" y="1379880"/>
              <a:ext cx="9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econda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C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188120" y="2744640"/>
            <a:ext cx="40968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866000" y="2523960"/>
          <a:ext cx="50796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66000" y="2523960"/>
                    <a:ext cx="50796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7643880" y="2839320"/>
            <a:ext cx="231840" cy="1260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797960" y="3228840"/>
            <a:ext cx="942480" cy="912240"/>
            <a:chOff x="7797960" y="3228840"/>
            <a:chExt cx="942480" cy="912240"/>
          </a:xfrm>
        </p:grpSpPr>
        <p:sp>
          <p:nvSpPr>
            <p:cNvPr id="282" name=""/>
            <p:cNvSpPr/>
            <p:nvPr/>
          </p:nvSpPr>
          <p:spPr>
            <a:xfrm>
              <a:off x="7797960" y="3228840"/>
              <a:ext cx="942480" cy="912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02720" y="3288240"/>
              <a:ext cx="733320" cy="550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Anten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>
            <a:off x="7081920" y="3311280"/>
            <a:ext cx="714240" cy="468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67760" y="41432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67760" y="43592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56680" y="4264200"/>
            <a:ext cx="12996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56680" y="4359240"/>
            <a:ext cx="10800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clock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9360" y="1103400"/>
            <a:ext cx="808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management provides read / write access to configure registers of the embedded resources and manages the interrupt hand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040" y="357516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c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ystem clock frequency of TWL3031 is 13-M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LK1 System clock input (from host process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21:54:03Z</dcterms:created>
  <dc:creator>Eric Wand</dc:creator>
  <dc:description/>
  <dc:language>en-US</dc:language>
  <cp:lastModifiedBy>TI User</cp:lastModifiedBy>
  <dcterms:modified xsi:type="dcterms:W3CDTF">2006-02-09T02:05:10Z</dcterms:modified>
  <cp:revision>51</cp:revision>
  <dc:subject/>
  <dc:title>PowerPoint Presentation</dc:title>
</cp:coreProperties>
</file>